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FE0-2C65-44D5-804B-2442C2E5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210-10B2-4188-BD24-5DFEB2CF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02E-4DC1-4843-944C-534F68F9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9D6-BD8F-48EC-A066-A407E8FA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2D8-D14F-404E-9707-AB72BEC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750-D22D-4743-AC07-9161C95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E9C-F05B-4944-91F5-1E75C68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A3A-EC90-4F01-B56B-9B300BC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BEE-3DB7-4294-B86E-0D9302F4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D38-86F4-4D61-B8F1-130EC665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1A7-50BA-4FC3-9329-A086350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EDC-73D3-43A6-9B5A-93B2CE1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7A2-6C43-480A-8F2C-320CB53F6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id Maori hu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Corban and Huss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02:34:37Z</dcterms:created>
  <dc:creator>5d20</dc:creator>
  <dc:description/>
  <dc:language>en-US</dc:language>
  <cp:lastModifiedBy>5d20</cp:lastModifiedBy>
  <dcterms:modified xsi:type="dcterms:W3CDTF">2013-06-17T03:01:32Z</dcterms:modified>
  <cp:revision>2</cp:revision>
  <dc:subject/>
  <dc:title>Slide 1</dc:title>
</cp:coreProperties>
</file>